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046-DFF4-4862-9785-D0CEF9E6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432-E2F8-4A0E-8510-70DED4F6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A43-10EE-498D-906C-0BA5EE34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032-CA38-4147-8695-014BAF89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33EF-2924-4B8A-BBCF-828DAB47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BE96-0CA1-4C5F-B648-97C6BD79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72C9-7034-4E3C-9816-98F2F68D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CF0E-30A0-42DB-8539-2E6016E8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5A34-C12B-4A7F-B835-AEBF2479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E55A-83F9-48D1-801F-263C7A59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0449-F1D1-4FCA-97AE-1B3F65EF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F0E-1F59-4A7A-B536-DF65650D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78C4-48B2-40ED-8776-D9AD8775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DD53-27C4-4AEC-B349-333545D8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D5AB-2DBF-4A7A-B291-DB1365D8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85AC-383E-4F24-9279-6CFDDE3C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7760-DB32-4D9A-AA0D-50297444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5D9-2E76-4205-B31B-FFF669C4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935-D513-4E6C-858F-B2AB79A6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2B4-1154-4D63-B475-665E9793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2AF-26BF-462B-AA62-3E1926F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FD4-82ED-4711-85F6-E70B7258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DC6-E5D9-496A-905D-58F1C8D8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F82-27E0-428A-9EAA-B8B38949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1A3A-E9AD-4F29-A3F9-0CE60981AAE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5E42-E387-4161-87DE-A2E342DE7A2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Go Tell The Good News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Journey Begins”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564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Quarter 11, Lesson 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cts 13:33-5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ages 74-7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2A84-08FD-4C8F-A05C-1CEB3E07C57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vents of The Following Sabbath (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cont’d)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ts 13:44-5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752120"/>
            <a:ext cx="73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fter this, the Jews stirred up the leaders of the city and had Paul and Barnabas expell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and Barnabas brushed the dust off their feet against them and moved on to Iconium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 those who had been converted were filled with joy and the Holy Spiri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6D8-223B-4455-AD1B-120E75A4FD61}" type="slidenum">
              <a:t>10</a:t>
            </a:fld>
          </a:p>
        </p:txBody>
      </p:sp>
    </p:spTree>
  </p:cSld>
  <p:transition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vents of The Following Sabbath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(cont’d)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ts 13:44-5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752120"/>
            <a:ext cx="7386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Gentiles rejoiced at the hope of salvation and the word of God sprea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told the Jews that they had judged themselves unworthy of eternal lif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added “This is what the Lord commanded us when He said ‘I have set you for a light to the Gentiles that you may bring salvation to the ends of the earth.’”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EE7-C856-4052-9CC4-8487FBDDE911}" type="slidenum">
              <a:t>11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9C9-9C99-4C9F-B89C-FDB567D00AA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n Antioch of Pisidia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ts 13:13-15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ul and his companions sailed north from Cyprus to Pamphylia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om there John Mark returns to Jerusalem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ul displeased since Mark “…went not with them to the work”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ul and Barnabas travel on to Antioch of Pisidia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ey are there invited to speak in the synagogu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EF8-FACA-44C4-A69C-F0E02505BD0B}" type="slidenum">
              <a:t>3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ul’s Speech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’s speech consisted of three section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srael’s history led them to the Christ   (vs 17-25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od fulfilled His promises to Israel by raising Jesus from the dead (vs 26-37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 Jesus alone is forgiveness and justification (vs 38-41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67B-DEE2-4823-9BA9-89B1DA62C31D}" type="slidenum">
              <a:t>4</a:t>
            </a:fld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ul’s Speech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(cont’d)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od chose Israel’s father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led them out of Egyp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gave them the land of Canaan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gave them judg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gave them a king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om David’s descendants He brought forth a savior, Jesu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930-9AAF-4684-A8FF-F1F66E9695FB}" type="slidenum">
              <a:t>5</a:t>
            </a:fld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ul’s speech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(cont’d)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ewish leaders did not accept Jesus as the Christ and killed Him, fulfilling prophecy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od raised Jesus from the dea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n all this, God fulfilled His promises to the father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E16-757C-4F24-8762-96ACC825C9A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ul’s Speech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(cont’d)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rough Jesus, remission of sins is preach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ll who believe on Him can be justifi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eware how you hear lest you disbelieve as they did in Habbakuk’s day, and also like their brethren in Judea who rejected Jesu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A21-0E74-4AF1-9231-D1EBFF9507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mpact of Paul’s Speech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ts 13:42-43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828440"/>
            <a:ext cx="750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Both Jews and God-fearing Gentiles were in the assembl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he people were excited and asked Paul and Barnabas to speak again the next Sabbat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any of the Jews and devout proselytes followed them, and Paul and Barnabas persuaded them furth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o continue in God’s grace, they needed to believe and obey the message they had hear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8B2-171A-41A0-A1D0-3188F516C087}" type="slidenum">
              <a:t>8</a:t>
            </a:fld>
          </a:p>
        </p:txBody>
      </p:sp>
    </p:spTree>
  </p:cSld>
  <p:transition>
    <p:cover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vents of The Following Sabbath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ts 13:44-5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lmost the whole city came to hear Paul and Barnaba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ews were filled with jealousy and began blaspheming and contradicting Pau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ews rejected the message so Paul and Barnabas turned to the Gentil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C72-9356-4C90-A2FA-6191F0261377}" type="slidenum">
              <a:t>9</a:t>
            </a:fld>
          </a:p>
        </p:txBody>
      </p:sp>
    </p:spTree>
  </p:cSld>
  <p:transition>
    <p:cover dir="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20:58:51Z</dcterms:created>
  <dc:creator>billy lauderdale</dc:creator>
  <dc:description/>
  <dc:language>en-US</dc:language>
  <cp:lastModifiedBy>Frank D Vines</cp:lastModifiedBy>
  <dcterms:modified xsi:type="dcterms:W3CDTF">2007-02-21T19:20:40Z</dcterms:modified>
  <cp:revision>26</cp:revision>
  <dc:subject/>
  <dc:title>Go Tell The Good News “The Journey Begins”</dc:title>
</cp:coreProperties>
</file>